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679-E9BD-4DED-95AE-DF543554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CE9-C812-4990-9180-AE97303F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B72-CD29-47FF-BA58-848E226C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9BF-8C34-42F9-84AC-79C43432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62B-426A-4D01-A69E-A50D0156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D41-ACA6-473C-8B31-E1A17313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51F-F312-4323-B085-15417D46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B8A-A67D-448E-957F-8C49E203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5A9-FCEF-4E28-9225-5E2CDF5D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343-45F9-4731-B2D3-0FE4CCCB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1C1-2516-476C-A5FB-762C0893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976-E456-4F07-8633-68D1F999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0227-5EB8-4273-8586-A63DBCB0BB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theliberalblogger.com/forum/attachments/f2/16276d1202685123-33-weird-unusual-shaped-houses-around-world-kettle-house-galveston-texas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60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686320" cy="20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92360" y="234936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715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38400" y="981000"/>
            <a:ext cx="6667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713800" cy="5227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Franklin Gothic Demi"/>
              </a:rPr>
              <a:t>This is an American Police car.</a:t>
            </a: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Franklin Gothic Demi"/>
              </a:rPr>
              <a:t>They have just got stuck in cement…</a:t>
            </a: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Franklin Gothic Demi"/>
              </a:rPr>
              <a:t>Imagine that you are the driver of the patrol car. What are you thinking righ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14120" y="5516640"/>
            <a:ext cx="962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Franklin Gothic Demi"/>
              </a:rPr>
              <a:t>Write a paragraph about what happened le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Franklin Gothic Demi"/>
              </a:rPr>
              <a:t>up to getting stuck in the ce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928440" y="4754520"/>
            <a:ext cx="1076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Qlassik Medium"/>
              </a:rPr>
              <a:t>Imagine that you are this gu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Qlassik Medium"/>
              </a:rPr>
              <a:t>How do you feel at this moment? Write a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Qlassik Medium"/>
              </a:rPr>
              <a:t>about your base jum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692360" y="1628280"/>
            <a:ext cx="1295280" cy="3095640"/>
          </a:xfrm>
          <a:prstGeom prst="line">
            <a:avLst/>
          </a:prstGeom>
          <a:ln w="349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268520" cy="640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150840"/>
            <a:ext cx="42562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What is going on here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Write a half-page descriptio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from either the point-of-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of one of the young men 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the photo or the p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taking the photo.</a:t>
            </a:r>
            <a:r>
              <a:rPr b="0" lang="en-NZ" sz="3200" spc="-1" strike="noStrike">
                <a:solidFill>
                  <a:srgbClr val="ffffff"/>
                </a:solidFill>
                <a:latin typeface="Romeo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1957320"/>
            <a:ext cx="6553440" cy="4900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667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27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333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Rockwell"/>
              </a:rPr>
              <a:t>Look at the photograph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Rockwell"/>
              </a:rPr>
              <a:t>What do you think is going to happen to this young man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Rockwell"/>
              </a:rPr>
              <a:t>Write a diary entry for the man who is about to ‘hit the deck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9280" y="2133720"/>
            <a:ext cx="5976720" cy="4535280"/>
            <a:chOff x="179280" y="2133720"/>
            <a:chExt cx="5976720" cy="4535280"/>
          </a:xfrm>
        </p:grpSpPr>
        <p:sp>
          <p:nvSpPr>
            <p:cNvPr id="49" name=""/>
            <p:cNvSpPr/>
            <p:nvPr/>
          </p:nvSpPr>
          <p:spPr>
            <a:xfrm>
              <a:off x="179280" y="2133720"/>
              <a:ext cx="5976720" cy="4535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33-weird-unusual-shaped-houses-around-world-kettle-house-galveston-texas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52360" y="2205000"/>
              <a:ext cx="5832360" cy="437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-229320" y="166680"/>
            <a:ext cx="962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Eras Medium ITC"/>
              </a:rPr>
              <a:t>Look at the picture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Eras Medium ITC"/>
              </a:rPr>
              <a:t>It is a house shaped like a kett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Eras Medium ITC"/>
              </a:rPr>
              <a:t>Write a story about the people who live in this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Eras Medium ITC"/>
              </a:rPr>
              <a:t>Your story should be about half a page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71560" y="423720"/>
            <a:ext cx="74008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632720" cy="5027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3480" y="130320"/>
            <a:ext cx="808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entury Gothic"/>
              </a:rPr>
              <a:t>Describe what is happening in this photograph. It is the Taiwanese Parli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entury Gothic"/>
              </a:rPr>
              <a:t>Then – write down whether you think this could happen in the New Zealand debating chamb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entury Gothic"/>
              </a:rPr>
              <a:t>This is a fight in the Taiwanese Parliament (they have a lot of fight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entury Gothic"/>
              </a:rPr>
              <a:t>Imagine that you are this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entury Gothic"/>
              </a:rPr>
              <a:t>Write how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entury Gothic"/>
              </a:rPr>
              <a:t>are feeling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entury Gothic"/>
              </a:rPr>
              <a:t>that mo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2565360"/>
            <a:ext cx="5362560" cy="3714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08720" y="2133720"/>
            <a:ext cx="21564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41:21Z</dcterms:created>
  <dc:creator>deborahmi</dc:creator>
  <dc:description/>
  <dc:language>en-US</dc:language>
  <cp:lastModifiedBy>susannewi</cp:lastModifiedBy>
  <dcterms:modified xsi:type="dcterms:W3CDTF">2008-03-10T02:06:21Z</dcterms:modified>
  <cp:revision>12</cp:revision>
  <dc:subject/>
  <dc:title>Slide 1</dc:title>
</cp:coreProperties>
</file>